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D42-3914-44DD-94DF-341F3D09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C51-0B40-465D-B46B-26F5BF07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E2B-4440-4E0D-BDEE-BD818025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E16-9E76-49CB-9629-22BF1EC4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ECD-8811-4731-B132-F08275FA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A5F-32B6-4F0F-931E-51DC691E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526-0D1B-4DAA-8CA3-A1E9C971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3D9-9B7E-4BDA-A6E8-2335D8D0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479-F01B-4239-BAEA-DC39F9E8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8DD-62B5-4C7D-BC23-44AAD28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9F6-8F06-4917-8EBD-32ECE24C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EBB-23AF-4512-B2C9-B7787673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1BB7-DD4E-4AE3-88BE-87AAC20B32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524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3526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اخـتـصـارا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بعض الكل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ماك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عدا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قياس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يام الأسبوع واشهر الس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Common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رموز عا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pr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6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Makkah S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.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niversity 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e.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12:10Z</dcterms:created>
  <dc:creator>Bafayad</dc:creator>
  <dc:description/>
  <dc:language>en-US</dc:language>
  <cp:lastModifiedBy>معمل الانجليزي</cp:lastModifiedBy>
  <dcterms:modified xsi:type="dcterms:W3CDTF">2005-03-27T06:42:15Z</dcterms:modified>
  <cp:revision>8</cp:revision>
  <dc:subject/>
  <dc:title>عرض تقديمي من PowerPoint</dc:title>
</cp:coreProperties>
</file>